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F68F-2CDC-4D63-A2D6-BA9038EC6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01C1-9C66-48BC-8645-C23719AF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E329-45C8-4BAB-A775-EE78283B5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DA45-A657-40ED-83B5-36C1C37D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3670-E5F6-48FB-8EC0-E121B982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3636-BD38-4EE3-AF67-3560F677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CE79-37B5-44F1-8EB5-648C28FF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2AC9-2977-489F-B6DA-20E633D2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94BE-81CF-4EDB-9610-5855282D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143D-5547-4D1A-B948-B0FEBAD8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0E70-E696-413C-8D37-02CF7D30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F18B-2D97-4A72-9931-795A6DC8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4892-974A-4385-B20F-4AC906443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66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 Biology Essential Chemistry Packet: Questions 4 &amp;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Kelly, Amy, Chris, and Jo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: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 4: What is the appropriate C:H:O ratio in each of the following types of macromolecu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hydrat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:2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pids (fat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: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 rational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ic Acid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 rational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pid:                                                                Carbohydr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 H  H  H  H  H  H  H  H  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  |    |   |    |    |    |   |    |  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-C- C- C- C- C-  C-C–C- C-C=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  |    |   |    |    |    |   |   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H  H  H  H  H  H  H 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267080" y="3886200"/>
            <a:ext cx="389592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 5: What other elements are commonly associated with each of these four types of macromolecu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28600" y="1828800"/>
          <a:ext cx="8763120" cy="4640400"/>
        </p:xfrm>
        <a:graphic>
          <a:graphicData uri="http://schemas.openxmlformats.org/drawingml/2006/table">
            <a:tbl>
              <a:tblPr/>
              <a:tblGrid>
                <a:gridCol w="1752480"/>
                <a:gridCol w="1752840"/>
                <a:gridCol w="1752480"/>
                <a:gridCol w="1752480"/>
                <a:gridCol w="175284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ohyd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pi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i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i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ways contains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ually contains no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ways contains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ually contains no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ten contains 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rely contains 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4:17:43Z</dcterms:created>
  <dc:creator>xpstudent</dc:creator>
  <dc:description/>
  <dc:language>en-US</dc:language>
  <cp:lastModifiedBy>xpstudent</cp:lastModifiedBy>
  <dcterms:modified xsi:type="dcterms:W3CDTF">2010-09-23T14:29:58Z</dcterms:modified>
  <cp:revision>4</cp:revision>
  <dc:subject/>
  <dc:title>AP Biology Essential Chemistry Packet: Questions 4 &amp; 5</dc:title>
</cp:coreProperties>
</file>